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03030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058-0433-4DA4-9FC5-C607C6812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025-6763-42F2-8FBA-E40C3B627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. rotations: explain strategy, show example,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/Sara: admit exit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/Becky: fram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/Joy: Q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7A9-1713-45F3-9151-6FEF1025A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E47-0587-4DEB-B407-D5B40A4C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ept. for 3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7CF0-DCB7-407D-9026-187AB73AF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D79B-4945-4601-97C1-AD8B72EFA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F53D-968B-4897-90B2-EF456B7A5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D8BD-B76B-4FB2-9F48-82D8F006B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. 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1072-DF45-4153-9BB9-120A3392C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. Cole (Kevin Lauridsen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before/after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A4D-BF00-4953-900F-AAA4AD458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C10A-E120-445C-A18E-5221AAB6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C5AC-893C-44A7-9EA9-9D83FEF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62D2-4408-484C-A6C4-6832488E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4948-832F-4C6F-A894-E021A0C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CD82-B3A1-4FCA-B2BC-4AB1FF99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83F7-731D-4152-88A5-E41FE21C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B7B3-1C67-4DD2-BC8B-F27D76F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C957-C2C9-4D22-8B7F-6FFAB3C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0153-4CB1-4D3C-AF14-820B83F9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18FB-43D1-4630-81DC-3D4C2DB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A273-9854-46AC-9F6B-FD44FF1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FA21-78C4-41A0-9FC0-325F3FF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0303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D6D-886E-4CFB-A1FC-36317D5F0F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03030"/>
                </a:solidFill>
                <a:latin typeface="Cambria"/>
              </a:rPr>
              <a:t>Write to Learn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an. 16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03030"/>
                </a:solidFill>
                <a:latin typeface="Cambria"/>
              </a:rPr>
              <a:t>PURPOSES FOR NON-FICTION WRITING</a:t>
            </a:r>
            <a:endParaRPr b="0" lang="en-US" sz="66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280" y="0"/>
          <a:ext cx="8763120" cy="701028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ag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Understand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59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provide all students  with  a nonthreatening opportunity to respo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engaged in wri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help students “think” through writin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process the cont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: produce a product piece that goes through the writing process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 given feedback through rubric with clear proficiency leve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03030"/>
                </a:solidFill>
                <a:latin typeface="Cambria"/>
              </a:rPr>
              <a:t>3 Groups of Strategies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dmit/Exit slip, Double Entry Journal, MVP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riting Frame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ir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ick Write, 12 Word Summar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d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mbria"/>
              </a:rPr>
              <a:t>Quick Write with Sentence Starter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0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at I have learned about Write to Learn, one question I have i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Dept. collaboration time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e with your peers (common content/grade level) to implement at least one Write to Learn strategy into your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rategy will you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you implement it (prompt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ill you implement it (date/clas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 example of student work on Feb. 2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228240"/>
            <a:ext cx="7620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a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cienc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ith Pedersen’s room (348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tura MT Script Capitals"/>
              </a:rPr>
              <a:t>Social Stud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aron Stevens’ room (23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rint MT Shadow"/>
              </a:rPr>
              <a:t>Engl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Footlight MT Light"/>
              </a:rPr>
              <a:t>Foreign La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n Baldus’ room (32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lnSpc>
                <a:spcPct val="100000"/>
              </a:lnSpc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Fine/Applied Ar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21024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it sl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dep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in 2 sentences your plan to incorporate one WTL strategy before Feb. 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03030"/>
                </a:solidFill>
                <a:latin typeface="Cambria"/>
              </a:rPr>
              <a:t>Objectives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a purpose for using Write to Learn strategies in the classroo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quip teachers with Write to Learn strateg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765972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mbria"/>
              </a:rPr>
              <a:t>ADMIT SLIP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457200"/>
            <a:ext cx="76201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e 1 of the following questions to answer.  Use 3 reasons why for sup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99720"/>
            <a:ext cx="762012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30456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to include writing in your classroom, how easy would it be to do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ere to include writing in your classroom, what would be the biggest obstacl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sked your students to write in class, what would their reaction be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214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tated your expectations for writing in your classroom, what would be your top expectation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1800" y="264636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mbria"/>
              </a:rPr>
              <a:t>WHIP AROUND</a:t>
            </a:r>
            <a:endParaRPr b="0" lang="en-US" sz="80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03030"/>
                </a:solidFill>
                <a:latin typeface="Cambria"/>
              </a:rPr>
              <a:t>Goal</a:t>
            </a:r>
            <a:endParaRPr b="0" lang="en-US" sz="60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cross the school year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1199"/>
              </a:spcBef>
              <a:buClr>
                <a:srgbClr val="726056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riting in EVERY classroom EVERY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mmediate goal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1199"/>
              </a:spcBef>
              <a:buClr>
                <a:srgbClr val="726056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ET STUDENTS WRITING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Purpose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/90/90 study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sons for Wri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5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let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uble entry jour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buClr>
                <a:srgbClr val="ac95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column = key ideas from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buClr>
                <a:srgbClr val="ac95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column = implications for your classroom and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Most Valuable Point (MV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ive One, Get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03030"/>
                </a:solidFill>
                <a:latin typeface="Cambria"/>
              </a:rPr>
              <a:t>CLASSROOM EXAMPLES</a:t>
            </a:r>
            <a:endParaRPr b="0" lang="en-US" sz="5400" spc="-1" strike="noStrike">
              <a:solidFill>
                <a:srgbClr val="30303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2:20Z</dcterms:created>
  <dc:creator>Curto, Sara</dc:creator>
  <dc:description/>
  <dc:language>en-US</dc:language>
  <cp:lastModifiedBy>Curto, Sara</cp:lastModifiedBy>
  <cp:lastPrinted>2012-01-10T19:42:25Z</cp:lastPrinted>
  <dcterms:modified xsi:type="dcterms:W3CDTF">2012-01-16T18:33:25Z</dcterms:modified>
  <cp:revision>30</cp:revision>
  <dc:subject/>
  <dc:title>Write to Learn</dc:title>
</cp:coreProperties>
</file>